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699E-E113-4314-98BD-9F0FA8B1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5D35-2A84-4B14-8CE8-127A9C14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D1E1-FC6C-42CB-9FA2-9FFF5A84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020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784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56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020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784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8626-231F-4085-A383-FA1C6228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C4B3-6014-4F83-9F96-5469A75E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2F65-8657-4400-A5A0-46E736F6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5EBE-AE04-4069-A825-5D42D374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ABEC-2686-4CBF-A672-1EC1FB91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FF99-12CD-47AB-81D4-7C7B6FBC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73200" y="188640"/>
            <a:ext cx="7797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95C1-5682-403A-84AB-0A78A2AB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B3CF-2CE5-49DF-8889-C0AFEDE5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2E66-DD58-4311-B1DD-D9F706F0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D146-8DED-4B2E-BFD9-7AE45236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B6A2-3A33-41D9-98CE-342C9D21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21DE-7B5D-4371-8E58-28BCBE68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0626-79CF-428A-A42A-8A15AD98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0020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4784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5256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0020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4784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0A02-8E07-4CBD-B390-FCFA196D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58EA0-99D0-437C-8533-F894974BF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FED9C-9741-4502-811A-D2D5B558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62C7B-6F5D-4714-A6E6-A23F073B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1EB26-75D5-4ED6-ABA0-1D7C5C05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40D55-487E-4913-8FD0-C90EEE1D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7BC7-401B-4AFC-92A8-0A4F7BA2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73200" y="188640"/>
            <a:ext cx="7797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6513E-86B0-47C1-A54E-DCC5CB5B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09413-738B-4538-A892-11812DC0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8F5C8-2040-4662-BD36-CF1BD02C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28001-F756-4DED-9D98-5D62A922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095E3-5299-4E8B-B492-05327398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21A93-2571-4214-8956-F6C9E08A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0020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84784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95256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0020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84784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FC848-F2A9-44E6-AB34-11766C22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1E3A7-377D-41C6-9F6A-0DEAD9DF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52311-1463-4159-8907-B26CFD68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53197-B6C4-43AF-9464-B8295EFD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5DE9-FD1F-49DC-A764-91D6C7BB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99B9D-443E-425D-9CF5-B8A290F2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4A272-33D7-4D99-8F05-AC883BBD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73200" y="188640"/>
            <a:ext cx="7797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36838-E543-4425-9320-622902AE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DFF48-EFC7-492B-959F-39178CDF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CB3D7-A581-4F7E-B7BC-B0CDC8BB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96EA5-1F76-4EB6-954C-A0A26EDD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FA804-EABA-450D-B774-2109AB32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CF1A5-49DB-449D-91DA-EC1B2475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40020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847840" y="205740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5256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40020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847840" y="40078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60073-0486-4C0A-8DC9-D5EDC0AE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27BA-AC7F-4236-B6C7-E39E1730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3200" y="188640"/>
            <a:ext cx="779760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B0A1-067D-48E5-9480-F0841314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250A-22FD-4E3D-A365-7730C9CF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2000" y="40078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778C-8D0F-49A8-B359-C7F49AAA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56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2000" y="205740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560" y="40078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860D-CEF7-4533-947A-9456643A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c5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resh Mast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52560" y="6552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77040" y="655272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BDF9-C571-474A-8E5D-298D67DF2194}" type="slidenum"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c5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Fresh title.png"/>
          <p:cNvPicPr/>
          <p:nvPr/>
        </p:nvPicPr>
        <p:blipFill>
          <a:blip r:embed="rId2"/>
          <a:srcRect l="0" t="0" r="0" b="39778"/>
          <a:stretch/>
        </p:blipFill>
        <p:spPr>
          <a:xfrm>
            <a:off x="0" y="1566720"/>
            <a:ext cx="9144000" cy="2243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Fresh title.png"/>
          <p:cNvPicPr/>
          <p:nvPr/>
        </p:nvPicPr>
        <p:blipFill>
          <a:blip r:embed="rId3"/>
          <a:srcRect l="0" t="33639" r="0" b="59391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324480" y="6288120"/>
            <a:ext cx="198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5440" y="62881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381520" y="62881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0D9C-27C7-49A2-A763-B902567610A9}" type="slidenum"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c5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Fresh section.png"/>
          <p:cNvPicPr/>
          <p:nvPr/>
        </p:nvPicPr>
        <p:blipFill>
          <a:blip r:embed="rId2"/>
          <a:stretch/>
        </p:blipFill>
        <p:spPr>
          <a:xfrm>
            <a:off x="0" y="3767040"/>
            <a:ext cx="9144000" cy="3090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72840" y="6553080"/>
            <a:ext cx="19810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620880" y="6553080"/>
            <a:ext cx="28954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759440" y="6553080"/>
            <a:ext cx="68580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E93E-B4CC-403C-B36E-C8531C1D7216}" type="slidenum"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c5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Fresh Mast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4675320" y="1841400"/>
            <a:ext cx="3504960" cy="39625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990720" y="1841400"/>
            <a:ext cx="3504960" cy="39625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3200" y="188640"/>
            <a:ext cx="7797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952560" y="6552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5527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277040" y="655272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7A54-C00C-485F-B081-5FA6AB65B9A2}" type="slidenum">
              <a:rPr b="1" lang="en-US" sz="11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youtu.be/ufstmgDtNrM" TargetMode="External"/><Relationship Id="rId3" Type="http://schemas.openxmlformats.org/officeDocument/2006/relationships/hyperlink" Target="http://youtu.be/_S0Rdy41NFg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passionplay-oberammergau.com/index.php?id=59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317520" y="1133640"/>
            <a:ext cx="8143920" cy="18842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440" y="4114800"/>
            <a:ext cx="5257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066-1485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Title 1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016840" cy="17254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Hero =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Evil enemy = 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Quest =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Test of a hero =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upernatural elements =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Good vs. evil =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Female figure =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Title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077320" cy="1792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n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excerpt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from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Le Morte d’Arthur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or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he Death of Arthur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ritten by Sir Thomas Mallory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rchetype – a model; someone who is familiar to all, regardless to time or place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Arthur is an archetype of the romance hero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Title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077320" cy="1792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opy vocabulary from page 215 in your textbook.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016840" cy="17254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Near-perfect hero =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Evil enemy =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Quest =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Test of a hero =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upernatural elements =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Good vs. evil =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Female figure =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077320" cy="1792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ritten by Giovanni Boccaccio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ritten in Italian vernacular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art of the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ecameron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00 tales which deal with love and the corruption of the clergy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daptations of popular folk tales, fables, anecdotes, or jokes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Title 1" descr=""/>
          <p:cNvPicPr/>
          <p:nvPr/>
        </p:nvPicPr>
        <p:blipFill>
          <a:blip r:embed="rId1"/>
          <a:stretch/>
        </p:blipFill>
        <p:spPr>
          <a:xfrm>
            <a:off x="347760" y="189000"/>
            <a:ext cx="8126280" cy="1834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opy vocabulary from page 208.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Title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077320" cy="1792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n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introductory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narrative within which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each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of the characters proceed to tell individual stories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ecameron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en wealthy Florentines leave the city to escape the plague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For each of ten days, a king or queen will be named.  He or she will select a theme, and the others will tell stories based on the theme.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Federigo’s Falcon” was the 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man Old Style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story told on the 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man Old Style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day, a day devoted to stories with happy endings.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itle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077320" cy="17920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a6a21"/>
                </a:solidFill>
                <a:uFillTx/>
                <a:latin typeface="Bookman Old Style"/>
                <a:hlinkClick r:id="rId2"/>
              </a:rPr>
              <a:t>http://youtu.be/ufstmgDtNrM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a6a21"/>
                </a:solidFill>
                <a:uFillTx/>
                <a:latin typeface="Bookman Old Style"/>
                <a:hlinkClick r:id="rId3"/>
              </a:rPr>
              <a:t>http://youtu.be/_S0Rdy41NFg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077320" cy="1279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685440" y="1142640"/>
            <a:ext cx="7505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Originated in the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church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rovided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religiou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instruction since most of the population could not read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Mystery plays – based on Biblical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history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Bookman Old Style"/>
              </a:rPr>
              <a:t>(mystery and history rhyme)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Passion plays – re-enacted events in the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last week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of the life of 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Christ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(Last Supper, Betrayal, Crucifixion)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Miracle plays – based on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storie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of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saint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Bookman Old Style"/>
              </a:rPr>
              <a:t>(saints performed miracles)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Morality plays – featured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personified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virtues and vices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Member of guilds presented these plays, performing parts of the story that best represented their crafts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Title 1" descr=""/>
          <p:cNvPicPr/>
          <p:nvPr/>
        </p:nvPicPr>
        <p:blipFill>
          <a:blip r:embed="rId1"/>
          <a:stretch/>
        </p:blipFill>
        <p:spPr>
          <a:xfrm>
            <a:off x="487440" y="189000"/>
            <a:ext cx="7986600" cy="16952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a6a21"/>
                </a:solidFill>
                <a:uFillTx/>
                <a:latin typeface="Bookman Old Style"/>
                <a:hlinkClick r:id="rId2"/>
              </a:rPr>
              <a:t>http://www.passionplay-oberammergau.com/index.php?id=59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Title 1" descr=""/>
          <p:cNvPicPr/>
          <p:nvPr/>
        </p:nvPicPr>
        <p:blipFill>
          <a:blip r:embed="rId1"/>
          <a:stretch/>
        </p:blipFill>
        <p:spPr>
          <a:xfrm>
            <a:off x="396720" y="109440"/>
            <a:ext cx="8320320" cy="1285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952560" y="144792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 song or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songlike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oem that tells a story in a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regular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attern of rhythm and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rhyme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nd uses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simple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direct language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omes from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oral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tradition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No strict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rule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dictating their form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omes from an old French word meaning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“dancing song”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liques of Ancient English Poetry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– a collection of ballads gathered by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Sir Thomas Percy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nd published in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1765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Encouraged others to collect ballads from the people who 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sang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them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Title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077320" cy="17920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Every day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life of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common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folk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Supernatural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events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ensational,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sordid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or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tragic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subject matter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077320" cy="1431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952560" y="144792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Simple and 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Little or no 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background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457200" indent="-457200">
              <a:spcBef>
                <a:spcPts val="1800"/>
              </a:spcBef>
              <a:buClr>
                <a:srgbClr val="ff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Question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and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answer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format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5716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Details are gathered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little by little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from the answers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5716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Helps build 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suspense 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Bookman Old Styl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Refrain – 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repetition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of the last line or two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457200" indent="-457200">
              <a:spcBef>
                <a:spcPts val="1800"/>
              </a:spcBef>
              <a:buClr>
                <a:srgbClr val="ff0000"/>
              </a:buClr>
              <a:buFont typeface="Bookman Old Styl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Incremental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repetition – repetition of lines with slight 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variations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Bookman Old Styl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Musical – meant to be 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sung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for a general audience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5716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Strong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, simple beat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7.  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Conventional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phrases – understood by listeners to have 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meaning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beyond their 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literal ones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lvl="1" marL="85716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Title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077320" cy="1792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952560" y="198108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 verse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narrative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hich traces the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adventure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of a brave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knight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or other hero who has to overcome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danger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for love a noble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lady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or other high idea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et in a world in which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ordinary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laws are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suspended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nd idealized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heroe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fight, and almost always,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conquer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the forces of evil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itle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077320" cy="17920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Usually born under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mysteriou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ircumstances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Grows up in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obscurity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Undergoes a childhood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ritual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involving a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magic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eapon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In maturity, fights to defeat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evil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nd promote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peace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ided by magic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weapon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mentors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Mysteriou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events surround his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departure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from this world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Title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077320" cy="1792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Bookman Old Style"/>
              </a:rPr>
              <a:t>Near-perfect</a:t>
            </a:r>
            <a:r>
              <a:rPr b="0" lang="en-US" sz="19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Bookman Old Style"/>
              </a:rPr>
              <a:t>hero</a:t>
            </a:r>
            <a:endParaRPr b="0" lang="en-US" sz="19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man Old Style"/>
              </a:rPr>
              <a:t>Evil</a:t>
            </a:r>
            <a:r>
              <a:rPr b="0" lang="en-US" sz="19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900" spc="-1" strike="noStrike">
                <a:solidFill>
                  <a:srgbClr val="ff0000"/>
                </a:solidFill>
                <a:latin typeface="Bookman Old Style"/>
              </a:rPr>
              <a:t>enemy</a:t>
            </a:r>
            <a:endParaRPr b="0" lang="en-US" sz="19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man Old Style"/>
              </a:rPr>
              <a:t>Quest – a </a:t>
            </a:r>
            <a:r>
              <a:rPr b="0" lang="en-US" sz="1900" spc="-1" strike="noStrike">
                <a:solidFill>
                  <a:srgbClr val="ff0000"/>
                </a:solidFill>
                <a:latin typeface="Bookman Old Style"/>
              </a:rPr>
              <a:t>dangerous </a:t>
            </a:r>
            <a:r>
              <a:rPr b="0" lang="en-US" sz="1900" spc="-1" strike="noStrike">
                <a:solidFill>
                  <a:srgbClr val="000000"/>
                </a:solidFill>
                <a:latin typeface="Bookman Old Style"/>
              </a:rPr>
              <a:t>journey in search of something of </a:t>
            </a:r>
            <a:r>
              <a:rPr b="0" lang="en-US" sz="1900" spc="-1" strike="noStrike">
                <a:solidFill>
                  <a:srgbClr val="ff0000"/>
                </a:solidFill>
                <a:latin typeface="Bookman Old Style"/>
              </a:rPr>
              <a:t>value</a:t>
            </a:r>
            <a:endParaRPr b="0" lang="en-US" sz="19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Bookman Old Style"/>
              </a:rPr>
              <a:t>Test</a:t>
            </a:r>
            <a:r>
              <a:rPr b="0" lang="en-US" sz="19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Bookman Old Style"/>
              </a:rPr>
              <a:t>of a hero</a:t>
            </a:r>
            <a:endParaRPr b="0" lang="en-US" sz="19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Bookman Old Style"/>
              </a:rPr>
              <a:t>Supernatural</a:t>
            </a:r>
            <a:r>
              <a:rPr b="0" lang="en-US" sz="19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Bookman Old Style"/>
              </a:rPr>
              <a:t>elements</a:t>
            </a:r>
            <a:endParaRPr b="0" lang="en-US" sz="19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man Old Style"/>
              </a:rPr>
              <a:t>Good vs. </a:t>
            </a:r>
            <a:r>
              <a:rPr b="0" lang="en-US" sz="1900" spc="-1" strike="noStrike">
                <a:solidFill>
                  <a:srgbClr val="ff0000"/>
                </a:solidFill>
                <a:latin typeface="Bookman Old Style"/>
              </a:rPr>
              <a:t>evil</a:t>
            </a:r>
            <a:endParaRPr b="0" lang="en-US" sz="19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Bookman Old Style"/>
              </a:rPr>
              <a:t>Female</a:t>
            </a:r>
            <a:r>
              <a:rPr b="0" lang="en-US" sz="19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Bookman Old Style"/>
              </a:rPr>
              <a:t>figure – maidens, mothers, crones (witch-like old lady)</a:t>
            </a:r>
            <a:endParaRPr b="0" lang="en-US" sz="19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Title 1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8077320" cy="1792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Dangerous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journey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 test of the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hero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 return to the </a:t>
            </a: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starting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oin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he hero wants or needs to obtain something of value and then return home.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Title 1" descr=""/>
          <p:cNvPicPr/>
          <p:nvPr/>
        </p:nvPicPr>
        <p:blipFill>
          <a:blip r:embed="rId1"/>
          <a:stretch/>
        </p:blipFill>
        <p:spPr>
          <a:xfrm>
            <a:off x="396720" y="-36360"/>
            <a:ext cx="8077320" cy="2017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952560" y="20574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robably written around 1375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Ideals of knightly conduct such as courage, loyalty, and courtesy were beginning to erode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ir Gawain is one of King Arthur’s knights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2:56:06Z</dcterms:created>
  <dc:creator>pcoles</dc:creator>
  <dc:description/>
  <dc:language>en-US</dc:language>
  <cp:lastModifiedBy>user</cp:lastModifiedBy>
  <dcterms:modified xsi:type="dcterms:W3CDTF">2013-02-20T14:24:46Z</dcterms:modified>
  <cp:revision>86</cp:revision>
  <dc:subject/>
  <dc:title>Medieval Literature</dc:title>
</cp:coreProperties>
</file>